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6AEB-8619-44D4-AA0A-67430430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40C2-817A-4193-AAE0-E3D1732C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3158-1448-43C7-B169-6BBE247B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372B-5E74-49BD-B0FF-CD1EA8925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7839-BD4F-4F2C-A603-6D5870D2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86E6-6DBC-4BE1-B011-6D596C66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EEAF-F7E6-4BE3-9277-6570222B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1F84-6A5C-4913-8046-827BD0F1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8370-7D94-43B9-8E2F-14F149C0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A882-734A-4839-97D5-AE386510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21B7-6580-4B08-AD86-00B217A5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84F4-28D7-4C4A-92BD-5C8DB472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2163-6FFE-49E7-8F18-9B79F844E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.treehugger.com/images/2007/10/24/smoke%2520stack-jj-001.jpg&amp;imgrefurl=http://www.treehugger.com/files/2007/06/wow_is_right.php&amp;usg=__SXOZrso1I54GPkBy5wtE4-x5WFY=&amp;h=369&amp;w=464&amp;sz=19&amp;hl=en&amp;start=6&amp;zoom=1&amp;itbs=1&amp;tbnid=IsSMY6Z13yTW9M:&amp;tbnh=102&amp;tbnw=128&amp;prev=/images%3Fq%3Dfactory%2Bsmoke%2Bpollution%26hl%3Den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2.bp.blogspot.com/_-z5CDZfrG4k/TOhB2FndOJI/AAAAAAAAAnc/CmrnLmEIAIk/s1600/siberian-tiger-6.jpg&amp;imgrefurl=http://siberiantiger1.blogspot.com/&amp;usg=__7olIJ2PM6SjUvYzLALbR8WMrAMo=&amp;h=718&amp;w=566&amp;sz=90&amp;hl=en&amp;start=3&amp;zoom=1&amp;itbs=1&amp;tbnid=z6vAmJ5RTujeiM:&amp;tbnh=140&amp;tbnw=110&amp;prev=/images%3Fq%3Dsiberian%2Btiger%26hl%3Den%26gbv%3D2%26tbs%3Disch:1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m/imgres?imgurl=http://www.treehugger.com/monk-seal.png&amp;imgrefurl=http://www.treehugger.com/files/2010/01/humans-now-wiping-out-species-1000-times-natural-rate.php&amp;usg=__1g8k40TmUm30cKEmXwzp8DxlLhE=&amp;h=480&amp;w=491&amp;sz=590&amp;hl=en&amp;start=6&amp;zoom=1&amp;itbs=1&amp;tbnid=g6YB6-IVwVegDM:&amp;tbnh=127&amp;tbnw=130&amp;prev=/images%3Fq%3Dmediterranean%2Bmonk%2Bseal%26hl%3Den%26gbv%3D2%26tbs%3Disch:1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de.academic.ru/pictures/dewiki/77/Microtus_pennsylvanicus.jpg&amp;imgrefurl=http://iran665.indo.cz.cc/microtus-multiplex.html&amp;usg=__Znl7Fz5-fxgzNLvTW8RyYQn52nc=&amp;h=201&amp;w=250&amp;sz=11&amp;hl=en&amp;start=4&amp;zoom=1&amp;itbs=1&amp;tbnid=IHb3wpAG9gawtM:&amp;tbnh=89&amp;tbnw=111&amp;prev=/images%3Fq%3DMuisk%2BVole%26hl%3Den%26sa%3DX%26gbv%3D2%26nfpr%3D1%26tbs%3Disch:1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ff99"/>
                </a:solidFill>
                <a:latin typeface="Arial"/>
              </a:rPr>
              <a:t>Environ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09480" y="3200400"/>
            <a:ext cx="8153640" cy="10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1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 Y   S H A N N A N  K E N N E D Y   &amp;   M I A   H E A L 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ussia’s Environment Problems </a:t>
            </a:r>
            <a:r>
              <a:rPr b="0" lang="en-US" sz="4000" spc="-1" strike="noStrike">
                <a:solidFill>
                  <a:srgbClr val="ff0066"/>
                </a:solidFill>
                <a:latin typeface="Wingdings"/>
                <a:ea typeface="Wingdings"/>
              </a:rPr>
              <a:t>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actories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in Russia Pollute the air with factories smo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In Russia when pipes age, they rust and break. Oil leaks through the surfaces causing disas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Many people in Russia do not have clean faucet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905120"/>
            <a:ext cx="3124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ff"/>
                </a:solidFill>
                <a:latin typeface="Arial"/>
              </a:rPr>
              <a:t>More Environment Problems </a:t>
            </a:r>
            <a:r>
              <a:rPr b="1" lang="en-US" sz="4400" spc="-1" strike="noStrike">
                <a:solidFill>
                  <a:srgbClr val="9966ff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Some Nuclear power plants in Russia are not sa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Acid rain kills plants, animals &amp; can damage thi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1 Billion $ lost every year to illegal logg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809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Curlz MT"/>
              </a:rPr>
              <a:t>Rivers in Russia….YUC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ussia is one of the worst polluted places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ny fish, turtles, and ducks die every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ny people don’t have fresh water to drink &amp; swim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ot a lot of people want to visit Russia because of the ri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19720" y="1828800"/>
            <a:ext cx="4533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ussia’s Endangered Species </a:t>
            </a:r>
            <a:r>
              <a:rPr b="0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ur (Siberian) Tiger is the biggest of its kind. There are only about 450 l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rsk Vole is Critically endangered. And is VERY VERY close to exti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diterranean Monk Seal is one of Russia/ Europe’s most endangered species. They live around the Black Sea,There are only about 500 l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14479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3886200"/>
            <a:ext cx="1981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406188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he Musk vole is very endangered, around 450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Wrangel Lemming is high risk of extinction. They are only found in Rus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371600" y="609480"/>
            <a:ext cx="6496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re Endangered Speci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16765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095880" y="4038480"/>
            <a:ext cx="2362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7:04:44Z</dcterms:created>
  <dc:creator> </dc:creator>
  <dc:description/>
  <dc:language>en-US</dc:language>
  <cp:lastModifiedBy> </cp:lastModifiedBy>
  <dcterms:modified xsi:type="dcterms:W3CDTF">2010-12-15T17:38:54Z</dcterms:modified>
  <cp:revision>3</cp:revision>
  <dc:subject/>
  <dc:title>        </dc:title>
</cp:coreProperties>
</file>